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5314-4F59-41F2-A22D-9107F7856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0F0D-2407-44A2-82C7-DDA4289EE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 links to CWS website from CB home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46A66F09-737E-4316-8455-1DD7108C97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de 11 and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rience jobs and job 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or 4 cre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R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e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9’s: If taking Civics/Careers in summer school,  put these courses into grade 11 (will remove later) and this will allow you to put in another elective in grade 1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50B8-45DF-41C0-87AE-FD9A3B74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6109-DB0D-426A-90D7-2B912DAE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D60-6452-4F50-BB9A-ACB56D61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309-1639-441D-9067-8DFCD6B4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8927-F3E2-45C3-BEDA-8DA680F6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4144-FAB3-4910-9B61-91E98651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5C92-6C9F-470A-AB94-03BF56B2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A5C2-4FB5-4852-80DB-D3CC9832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6F97-6C4D-4C82-9CD6-5DC2F437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3C8F-F181-4284-987F-0A3A1520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DCFB-0F75-4C12-85B8-46EF2E74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0BEB-9654-44AA-B236-2288A559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BEC4-CA15-4C79-93E5-8FC5EF0C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1A44-D269-4249-A34B-DA51B166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03AE-22A8-49EB-BBEC-87C86AC0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2ACC-7593-44DA-9BCD-059D155E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4DE8-F365-4A89-9059-6EDADC91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BC92-EEEE-4983-8179-0151BB35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2E85-A5B6-4034-8256-A3CEEE39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4E64-2964-42D9-973F-520B674D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B558-4FA0-4B49-AEB7-E153028A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F2AD-B84E-4570-939B-8178B564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C87B-FB9F-4B57-B6CF-5F969652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26C9-D737-42BE-85E5-B68F0637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1812-10F1-4418-B4EF-6C34BA5823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74D1-28F7-4F80-9C04-E296B81E33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ontariocolleges.ca/" TargetMode="External"/><Relationship Id="rId2" Type="http://schemas.openxmlformats.org/officeDocument/2006/relationships/hyperlink" Target="http://www.electronicinfo.ca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olonelby.com/teachers/canadianandworldstudie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2.careercruising.com/default/cplogin/OCD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2.careercruising.com/default/cplogin/OCD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olonelby.com/" TargetMode="External"/><Relationship Id="rId2" Type="http://schemas.openxmlformats.org/officeDocument/2006/relationships/hyperlink" Target="http://ibcb.ca/ibcourseguide20142015.pdf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ourse Selection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2016-201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kplace? Complete an apprenticeship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llege? University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k/travel? Part-time studies/work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ap year to upgrad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ider your strengths and interests when making a decis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uct some research to decide on option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COLLEG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Earn a diploma, applied degree, collaborative prog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requisite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SSD, ENG4C, and others depending on the specific progr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rtfolios, Program tests (Math, Language, HOAE), and/or interviews are required for certain progra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plied degree programs and collaborative programs generally have university require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ulation agreements with universities – opportunity to continue from college into degree progr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UNIVERSIT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Earn a Bachelor’s Degre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BSc, BCom, BA, etc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erequisites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SSD, ENG4U and specific program requirem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 4U or 4M courses (some schools maximum of two 4M course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nimum cut-off averages in specific courses for specific progra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rtfolios, test results, and/or interviews are required for certain progra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elds of Stud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iversi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457200" y="1995480"/>
            <a:ext cx="822960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ontariocolleges.c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www.electronicinfo.c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104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39116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t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3886200"/>
          <a:ext cx="8458200" cy="157320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- Colle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FM1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FM2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BF3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P4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80880" y="1600200"/>
          <a:ext cx="8458200" cy="157320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- Essent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FM1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L3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L4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t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4920" y="3886200"/>
          <a:ext cx="8534160" cy="1886040"/>
        </p:xfrm>
        <a:graphic>
          <a:graphicData uri="http://schemas.openxmlformats.org/drawingml/2006/table">
            <a:tbl>
              <a:tblPr/>
              <a:tblGrid>
                <a:gridCol w="1706400"/>
                <a:gridCol w="1706400"/>
                <a:gridCol w="1708200"/>
                <a:gridCol w="1706760"/>
                <a:gridCol w="1706400"/>
              </a:tblGrid>
              <a:tr h="486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– University (Specific Program Requirement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R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HF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V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DM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28600" y="1600200"/>
          <a:ext cx="8686440" cy="1904760"/>
        </p:xfrm>
        <a:graphic>
          <a:graphicData uri="http://schemas.openxmlformats.org/drawingml/2006/table">
            <a:tbl>
              <a:tblPr/>
              <a:tblGrid>
                <a:gridCol w="1736640"/>
                <a:gridCol w="1737360"/>
                <a:gridCol w="1738440"/>
                <a:gridCol w="1737360"/>
                <a:gridCol w="1736640"/>
              </a:tblGrid>
              <a:tr h="515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- Univers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F3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DM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ience Op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28600" y="1905120"/>
          <a:ext cx="8458200" cy="1693800"/>
        </p:xfrm>
        <a:graphic>
          <a:graphicData uri="http://schemas.openxmlformats.org/drawingml/2006/table">
            <a:tbl>
              <a:tblPr/>
              <a:tblGrid>
                <a:gridCol w="1690560"/>
                <a:gridCol w="169236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lege Science Pathway Op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3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Every other year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4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Every other year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28600" y="4267080"/>
          <a:ext cx="8534520" cy="255132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8200"/>
                <a:gridCol w="1706400"/>
                <a:gridCol w="1706760"/>
              </a:tblGrid>
              <a:tr h="483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versity Science Pathway Op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9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H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H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S4U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Every other year.  PrerequisiteSNC2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derstanding your Credit Counselling Summary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rsonal Infor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unity Involv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tario Literacy T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st cour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urrent cour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aduation crite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Canadian World Studies and Humanit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80880" y="137160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eograph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C1P/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D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W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80880" y="5248440"/>
          <a:ext cx="8534520" cy="16095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story, Politics and La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C2P/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W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U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Y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PW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80880" y="3200400"/>
          <a:ext cx="8534520" cy="188604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86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umanit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C2P/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SP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RT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BV3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SB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SE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r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137160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859040"/>
                <a:gridCol w="152388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WP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WM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80880" y="5248440"/>
          <a:ext cx="8534520" cy="16095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814400"/>
                <a:gridCol w="16002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rama and Musical Theat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A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B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B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B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80880" y="3200400"/>
          <a:ext cx="8534520" cy="188604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387440"/>
                <a:gridCol w="2133720"/>
                <a:gridCol w="1600200"/>
              </a:tblGrid>
              <a:tr h="494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MR1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MR2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MR3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J3M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vocal jazz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MR4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chnological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80880" y="1371600"/>
          <a:ext cx="8458200" cy="180504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05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chnological 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J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DJ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P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DJ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P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80880" y="4114800"/>
          <a:ext cx="8458200" cy="245124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07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erdisciplinary Stud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MS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DC4U –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Media:  A Critical Approach to Journalis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anguag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80880" y="137160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re Fren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1P/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80880" y="5248440"/>
          <a:ext cx="8534520" cy="16095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anis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B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D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380880" y="3200400"/>
          <a:ext cx="8534520" cy="171468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94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mersion Fren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1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ealth and Physical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04920" y="1523880"/>
          <a:ext cx="8458200" cy="2465640"/>
        </p:xfrm>
        <a:graphic>
          <a:graphicData uri="http://schemas.openxmlformats.org/drawingml/2006/table">
            <a:tbl>
              <a:tblPr/>
              <a:tblGrid>
                <a:gridCol w="1690560"/>
                <a:gridCol w="1967040"/>
                <a:gridCol w="1600200"/>
                <a:gridCol w="1509480"/>
                <a:gridCol w="1690920"/>
              </a:tblGrid>
              <a:tr h="402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ysical 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PL1OP/Q/1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PL2OQ/1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F2O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PL3OP/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F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PL4OP/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F4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4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4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SK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uidance and Career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920" y="1523880"/>
          <a:ext cx="8458200" cy="2135160"/>
        </p:xfrm>
        <a:graphic>
          <a:graphicData uri="http://schemas.openxmlformats.org/drawingml/2006/table">
            <a:tbl>
              <a:tblPr/>
              <a:tblGrid>
                <a:gridCol w="1690560"/>
                <a:gridCol w="1692360"/>
                <a:gridCol w="1692360"/>
                <a:gridCol w="1692000"/>
                <a:gridCol w="1690920"/>
              </a:tblGrid>
              <a:tr h="414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reer 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E1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E2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C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WL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N4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usiness and Computer Stud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0880" y="137160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si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BI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MI3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BB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H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380880" y="358128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uter Stud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CS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CS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CS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operative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great opportunity for experiential learn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y out a job and see how it fee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periods every second day in the afternoon (COP 3PD*) – 2 cred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periods every afternoon (COP4PD*) – 4 cred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*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Under Guidance/Career Ed. in Career Cruis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-operative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429000" cy="2400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486240" cy="2400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3419640" cy="2438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5" descr=""/>
          <p:cNvPicPr/>
          <p:nvPr/>
        </p:nvPicPr>
        <p:blipFill>
          <a:blip r:embed="rId4"/>
          <a:stretch/>
        </p:blipFill>
        <p:spPr>
          <a:xfrm>
            <a:off x="4800600" y="3924360"/>
            <a:ext cx="349560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SM – Arts and Cultur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gital Me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243828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ludes a bundle of major and other required credi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ken in grade 11 and grade 1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prenticeship, College, University, and Workplace pathways avail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ccessful completion leads to a Red Seal on the OSSD plus a program record transcri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Personal Information, Community Involvement, Ont. Literacy Test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87631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HSM – Arts and Culture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Digital Medi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7" name="Rectangle 43"/>
          <p:cNvGraphicFramePr/>
          <p:nvPr/>
        </p:nvGraphicFramePr>
        <p:xfrm>
          <a:off x="990720" y="1752480"/>
          <a:ext cx="6933960" cy="47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Rectangle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693396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Option She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s is a contract for what you want to take next yea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research your college and university requiremen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ask and consider the advice of your teacher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 aware of prerequisite cours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ke an appointment with your guidance counselor to discuss option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will try to place you in all of your requested cours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we can not, we will contact you with alternate opportunities or use your alternate choi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Your Option Sheet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2209680"/>
            <a:ext cx="61722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Career Cruis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-76320" y="0"/>
          <a:ext cx="9448920" cy="687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0"/>
                    <a:ext cx="944892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Your Option Sheet – </a:t>
            </a:r>
            <a:br>
              <a:rPr sz="2000"/>
            </a:b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Career Cruising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5800" y="990720"/>
          <a:ext cx="7696080" cy="56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7696080" cy="56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colonelby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ease see IB course guide online at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ibcb.ca/ibcourseguide20142015.pdf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er Scho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gistration will begin on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y 1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gistration can be completed online through Career Cruising.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you are taking a summer school course, identify the course in the space provid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-up and Reach Ahead opt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*Course Selection:  Note on your Course Selection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print ou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your intention to take summer school.  This is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 official summer school registr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an appointment with guid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earch your option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cuss recommended course levels with teach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ll out a planning she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derstand your personal balanc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will I achieve the strongest success BIG PICTU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cuss options with paren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se decisions are about you, so do not give up on the opportunity to speak up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urse Selection Due Dat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hursday, February 18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Verdan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bmit to classroom teacher for this present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geography – grade 9; history – grade 10; TOK – IB1/grade 11; English – grade 11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381880" cy="124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Past / Completed Cours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686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277560"/>
            <a:ext cx="8458200" cy="124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Current Cours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534520" cy="2625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33520" y="4876920"/>
            <a:ext cx="815328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610480" cy="147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ccecff"/>
                </a:solidFill>
                <a:latin typeface="Arial"/>
              </a:rPr>
              <a:t>Graduation Criteria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99172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ding the Co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G2D = Grade 10 English Academ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NC 2DF = Grade 10 Science Academic, Immer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FM2P = Grade 10 Math Appli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BI3U = Grade 11 Biology Univers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GJ3M = Grade 11  Communication Tech College/Univers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MI3C = Grade 11 Marketing Colle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F3O = Grade 11 Fitness  Op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do you need for you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ntario Diploma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 credits in English (1 credit per grad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 credits in Mathematics (1 credit in Grade 11 or 12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 credits in Sci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Canadian Histo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Canadian Geograph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the A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Health and Physical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French as a Second Langu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0.5 credit in Career Stud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0.5 credit in Civ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do you need for you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ntario Diploma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up 1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additional credit in English, or French as a Second Language, or a Native language, or a Classical or an International language, or Social Sciences and the Humanities, or Canadian and World Studies, or Guidance and Career Education, or Cooperative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up 2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additional credit in Health and Physical Education, or the Arts, or Business Studies, or French as a Second Language, or Cooperative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up 3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additional credit in Science (Grade 11 or 12), or Technological Education, or French as a Second Language, or Computer Studies, or Cooperative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0T14:22:03Z</dcterms:created>
  <dc:creator>C30185</dc:creator>
  <dc:description/>
  <dc:language>en-US</dc:language>
  <cp:lastModifiedBy>C40894</cp:lastModifiedBy>
  <dcterms:modified xsi:type="dcterms:W3CDTF">2016-02-09T13:48:28Z</dcterms:modified>
  <cp:revision>92</cp:revision>
  <dc:subject/>
  <dc:title>Option sheets 2014-2015</dc:title>
</cp:coreProperties>
</file>